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3BA-0B69-4650-945C-18322138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ACC-8B76-4650-ADA4-215CB80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62E-B573-4732-BF48-02C7A686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4E0-7FBC-4143-9AE0-17BD5F70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FA2-7924-4CBE-80D4-EEF823A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A80-9846-4FAA-997E-DF65188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176-414B-419F-BD66-E098690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0D7-216F-4E1E-8584-1179B6A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14E-2CBE-4146-927D-6C0EB4A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EDC-6CAB-4596-96C0-21C953D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803-598F-44AE-B418-3C3FEB0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657-4688-41DE-BF7D-D053A12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E36-CDE5-4A4C-A59F-B9A6264D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 Things? Boys or Gir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ail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80512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them ranged 5 and up with 1 equaling the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irls thought it was sour but most of them ranged under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 aren’t as effected to sour things as are guys ar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b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Fulb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ne Ni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Hinsh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k B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las La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e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ys B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on Crand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 Prof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Hend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Bauer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rey To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lah Co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ah Hend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ias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Em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i Do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die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e Ke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y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a Hor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llie Mcelheny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4:09:14Z</dcterms:created>
  <dc:creator>USD376</dc:creator>
  <dc:description/>
  <dc:language>en-US</dc:language>
  <cp:lastModifiedBy>USD376</cp:lastModifiedBy>
  <dcterms:modified xsi:type="dcterms:W3CDTF">2012-05-22T14:16:11Z</dcterms:modified>
  <cp:revision>2</cp:revision>
  <dc:subject/>
  <dc:title>Sour Things? Boys or Girls?</dc:title>
</cp:coreProperties>
</file>